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ED5-D0DF-4E86-A4B6-8E852BE6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2B9-CF6D-4778-9A2F-0CBD9C0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0C4-2F64-4DA2-8B74-76B9938A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D7E-1BA5-45F9-A365-45E68B6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952-0D7B-4DCE-9471-833A7FF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CE6-D8C0-4000-A557-77D0CE8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6A9-DB57-4059-8DC1-15FA658C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BE4-F84A-4A44-8D65-4557493C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778-1E8B-4D8A-BF5D-0CDB882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2BE-0AD3-412C-8B1B-8D10FFD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EFF-2254-407D-9D14-D5339F1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D19-4398-46A0-9EF1-1832D6B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6485-B3DE-4582-B7F6-FAD2CC29C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ne Specimen Standardize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7680" y="1212840"/>
          <a:ext cx="72295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1212840"/>
                    <a:ext cx="72295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962520" y="60199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porate 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00200" y="617220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35720" y="3258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ket attra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121896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87120" y="4495680"/>
            <a:ext cx="324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9080" y="6400800"/>
            <a:ext cx="31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VE Value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5080" y="1905120"/>
            <a:ext cx="495360" cy="1447560"/>
          </a:xfrm>
          <a:custGeom>
            <a:avLst/>
            <a:gdLst/>
            <a:ahLst/>
            <a:rect l="l" t="t" r="r" b="b"/>
            <a:pathLst>
              <a:path w="312" h="912">
                <a:moveTo>
                  <a:pt x="1" y="912"/>
                </a:moveTo>
                <a:cubicBezTo>
                  <a:pt x="53" y="835"/>
                  <a:pt x="312" y="604"/>
                  <a:pt x="312" y="452"/>
                </a:cubicBezTo>
                <a:cubicBezTo>
                  <a:pt x="312" y="300"/>
                  <a:pt x="65" y="94"/>
                  <a:pt x="0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4:39:28Z</dcterms:created>
  <dc:creator>Vauchel</dc:creator>
  <dc:description/>
  <dc:language>en-US</dc:language>
  <cp:lastModifiedBy>Vauchel</cp:lastModifiedBy>
  <cp:lastPrinted>2001-07-20T15:12:38Z</cp:lastPrinted>
  <dcterms:modified xsi:type="dcterms:W3CDTF">2001-07-20T15:16:41Z</dcterms:modified>
  <cp:revision>1</cp:revision>
  <dc:subject/>
  <dc:title>Nine Specimen Standardized Strategies</dc:title>
</cp:coreProperties>
</file>